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3D8E-8C83-4D2F-AB26-CAB3CB7C94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s in the camps, using sources A, C, D &amp; E. Cramped, sanitation, hopelessness, unemployed etc + resentement/anger at Deir Yassin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ed defeat of Arab nations in 48, 56, 67 &amp; 73: they can’t do it, so Palestinians have to do themselves. Support from other Arab nations: financial &amp; military – a way of causing instability for Israel and keeping the pressure on. Egypt in particular actively funded and encouraged Fedayeen attacks after mid 50’s. Arab nations themselves receive super power support from USSR. Example is the PLO: large and sophisticated organization that could not have existed without government support – not simply a refugee camp 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ach a settlement: refugees in ‘limbo land’: Arab nations won’t assimilate them for fear o f legitimizing Israeli aggression, Israel won’t take them back (shooting of infilitrators). When peace deals where reached Palestinians often excluded from negotiations, leading to even more resentment and hopelessness and therefore violence e.g. Camp David</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onically one of the major reasons for Palestinian resistance may be the sometimes heavy handed response of Israeli armed forces with massive reprisal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9B1D0-86E4-4BB5-A56F-585670336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4679E-1083-4790-89A3-A14A8CB1D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1E6AE-AD89-4682-A1F9-9384594EF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4FA83-34D2-4B2D-8565-BFCAB7526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0C5BA-2E8C-4E1B-B90B-0D62CF8A2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61A67-1D84-4241-B228-423C31AFB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613A1-060E-4381-A562-75DD68725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9348C-8374-48F4-A9D5-995035184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C8AA2-801F-4436-8BA5-433FF166C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13A3F-2A06-487C-AF6C-9B0923E2A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F90E6-A2E0-45F0-8D29-2C2D2CB1D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E494B-FBAB-4E69-8B04-5A6B02413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solidFill>
            <a:srgbClr val="ffffff">
              <a:alpha val="80000"/>
            </a:srgbClr>
          </a:solid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76B31-7166-4591-B172-93D9DDBC18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752120"/>
            <a:ext cx="7924680" cy="1600200"/>
          </a:xfrm>
          <a:prstGeom prst="rect">
            <a:avLst/>
          </a:prstGeom>
          <a:solidFill>
            <a:srgbClr val="ffffff">
              <a:alpha val="8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SimSun"/>
              </a:rPr>
              <a:t>Source E suggests that Palestinian resistance came about</a:t>
            </a:r>
            <a:br>
              <a:rPr sz="2600"/>
            </a:br>
            <a:r>
              <a:rPr b="0" lang="en-GB" sz="2600" spc="-1" strike="noStrike">
                <a:solidFill>
                  <a:srgbClr val="000000"/>
                </a:solidFill>
                <a:latin typeface="Times New Roman"/>
                <a:ea typeface="SimSun"/>
              </a:rPr>
              <a:t>as a result of the Refugee camps in neighbouring countries.  Do you agree that this was the case? (12 mark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clusion?</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solidFill>
            <a:srgbClr val="ffffff">
              <a:alpha val="80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 you agree? How far do you agre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member</a:t>
            </a: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7772400" cy="4114800"/>
          </a:xfrm>
          <a:prstGeom prst="rect">
            <a:avLst/>
          </a:prstGeom>
          <a:solidFill>
            <a:srgbClr val="ffffff">
              <a:alpha val="80000"/>
            </a:srgbClr>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ere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the sources where you c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re including ‘background knowledge’ be as specific as you c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 on the question throughout: did Palestinian resistance come about as a result of the refugee camps in neighbouring countries? Remember to explore alternative explanations/possibilit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uidance</a:t>
            </a: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solidFill>
            <a:srgbClr val="ffffff">
              <a:alpha val="80000"/>
            </a:srgbClr>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ound 800 wor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o use ‘infere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the sources: remember to quote and/or refer to the sources you have been given wherever releva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o both explore the evidence supporting the statement in the question  and also explore alternative explanations/reasons for Palestinian resista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1844280"/>
            <a:ext cx="5580000" cy="5142600"/>
          </a:xfrm>
          <a:prstGeom prst="rect">
            <a:avLst/>
          </a:prstGeom>
          <a:solidFill>
            <a:srgbClr val="ffffff">
              <a:alpha val="80000"/>
            </a:srgbClr>
          </a:solid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ea typeface="SimSun"/>
              </a:rPr>
              <a:t>Source 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SimSun"/>
              </a:rPr>
              <a:t>	</a:t>
            </a:r>
            <a:r>
              <a:rPr b="0" i="1" lang="en-GB" sz="2400" spc="-1" strike="noStrike">
                <a:solidFill>
                  <a:srgbClr val="000000"/>
                </a:solidFill>
                <a:latin typeface="Times New Roman"/>
                <a:ea typeface="SimSun"/>
              </a:rPr>
              <a:t>A Palestinian refugee talking about her son just after she had heard about his death in a raid on Isra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I am proud that my son did not die in th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refugee camp. The foreign press come her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and take pictures of us standing in queu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to  get food rations. This is no life. I am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proud my son died in action, fighting fo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our occupied soil. I am already prepari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my younger son for the day he can fight fo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freedom to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type="title"/>
          </p:nvPr>
        </p:nvSpPr>
        <p:spPr>
          <a:xfrm>
            <a:off x="609480" y="228240"/>
            <a:ext cx="8229600" cy="1523880"/>
          </a:xfrm>
          <a:prstGeom prst="rect">
            <a:avLst/>
          </a:prstGeom>
          <a:solidFill>
            <a:srgbClr val="ffffff">
              <a:alpha val="8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SimSun"/>
              </a:rPr>
              <a:t>Source E suggests that Palestinian resistance came about</a:t>
            </a:r>
            <a:br>
              <a:rPr sz="2600"/>
            </a:br>
            <a:r>
              <a:rPr b="0" lang="en-GB" sz="2600" spc="-1" strike="noStrike">
                <a:solidFill>
                  <a:srgbClr val="000000"/>
                </a:solidFill>
                <a:latin typeface="Times New Roman"/>
                <a:ea typeface="SimSun"/>
              </a:rPr>
              <a:t>as a result of the Refugee camps in neighbouring countries.  Do you agree that this was the case? (12 marks)</a:t>
            </a:r>
            <a:endParaRPr b="0" lang="en-US" sz="2600" spc="-1" strike="noStrike">
              <a:solidFill>
                <a:srgbClr val="000000"/>
              </a:solidFill>
              <a:latin typeface="Arial"/>
            </a:endParaRPr>
          </a:p>
        </p:txBody>
      </p:sp>
      <p:sp>
        <p:nvSpPr>
          <p:cNvPr id="53" name=""/>
          <p:cNvSpPr/>
          <p:nvPr/>
        </p:nvSpPr>
        <p:spPr>
          <a:xfrm>
            <a:off x="5651640" y="2852640"/>
            <a:ext cx="3492360" cy="25718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reasons does this refugee give for her son becoming involved in Palestian resistance?</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y did resistance come about?</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solidFill>
            <a:srgbClr val="ffffff">
              <a:alpha val="80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roups use the sources and your own knowledge discuss how and why Palestinian resistance came about: add you ideas to the central mind m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ditions in the camps</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solidFill>
            <a:srgbClr val="ffffff">
              <a:alpha val="80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ich sources could you use to support the argument that the conditions/situation in the camps led to Palestinian resist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eat of Arab armies</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solidFill>
            <a:srgbClr val="ffffff">
              <a:alpha val="80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could the repeated defeat of Arab armies in wars against Israel be a factor that led to Palestinian re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supported and funded the PLO &amp; other groups, 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ailure to reach a deal</a:t>
            </a: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solidFill>
            <a:srgbClr val="ffffff">
              <a:alpha val="80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other choices do Palestinian refugees have other than re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id Camp David do for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ycle of violence</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solidFill>
            <a:srgbClr val="ffffff">
              <a:alpha val="80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raeli reprisa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t 67</a:t>
            </a: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solidFill>
            <a:srgbClr val="ffffff">
              <a:alpha val="80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longer just refugee camps in neighbouring countries! Now occupied territo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4T12:27:27Z</dcterms:created>
  <dc:creator>Mr. Wright</dc:creator>
  <dc:description/>
  <dc:language>en-US</dc:language>
  <cp:lastModifiedBy>Mr. Wright</cp:lastModifiedBy>
  <dcterms:modified xsi:type="dcterms:W3CDTF">2008-11-11T07:34:40Z</dcterms:modified>
  <cp:revision>12</cp:revision>
  <dc:subject/>
  <dc:title>PowerPoint Presentation</dc:title>
</cp:coreProperties>
</file>